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22EF-0542-4F4F-9C74-C48AC92522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798D-FCFD-4AA2-A853-4584DDAB7F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A513-B703-4494-9EBB-436AE4591A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653E-4C14-4F7F-87A5-BEDAAA40DA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B2A8-2FB2-4FF8-9BC7-E2BD1B9FAF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B7FC-02C2-4542-B485-482094B93E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0872-603A-4585-8C9A-771B7970CA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4DD6-EA95-48C1-99D2-8934AAE503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18DD-2D70-42E4-84E3-BC546E2686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65CD-18B1-4B8F-B19D-5196E16F04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22D5-7966-422C-A3F7-D2F1174AD3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7CD5-5A12-4271-A29C-B8B1712E95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D3CB-10A3-4D79-8286-7EEA02ECB5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1AC4-E5AC-4409-87BD-24BBA9A5AC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626F-3660-4B72-8540-803C4837BB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14BA-FCF6-49F3-91C4-47FFCC8000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1426-2BAA-478A-AE8A-BA00C0835C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FF52-C679-4DA1-B926-8F099BA416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0555-D466-4B78-AA12-BBA71E6160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563A-0DBE-4053-A827-4319487971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8219-3B87-45E4-A06E-7BA935945B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851D-ADE7-4025-9852-6BE4808C83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D77A-6096-4BC3-944B-6CF291755D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8B82-C198-4702-AA4A-7A7BCC8D20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F247-BED9-4CDF-8493-3345248F9E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9D6D-E3DB-4635-9466-02C1EEC77A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C78-3AEF-4FAF-9A7E-865D09FE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9F4-AE6D-4A90-A8E9-B3A3BACE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644-47E7-4FC6-9CF7-2DB6B765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26D-FEEC-439F-9AE2-1B87F0C8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EF6-B343-4CB1-9C96-358DC1B2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EF7-9878-4507-AC6B-C92CBCFF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AD9-5EA3-404A-8B21-4DC6321E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5C6-CCA9-4A11-AE8E-E6B598F2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02E-4B2D-429C-A554-2E4FC019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962-6E5F-4107-A7FC-D61817B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0B4-1FB2-4360-AC20-5A5C63A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25B-2425-4528-8473-BCFBD895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E38C-1287-4F0F-AC27-A5958459F9E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ffffff"/>
                </a:solidFill>
                <a:latin typeface="Cooper Black"/>
              </a:rPr>
              <a:t>Enfocando la Misión</a:t>
            </a:r>
            <a:br>
              <a:rPr sz="8000"/>
            </a:br>
            <a:r>
              <a:rPr b="0" lang="es-MX" sz="4800" spc="-1" strike="noStrike">
                <a:solidFill>
                  <a:srgbClr val="ffffff"/>
                </a:solidFill>
                <a:latin typeface="Cooper Black"/>
              </a:rPr>
              <a:t>(</a:t>
            </a:r>
            <a:r>
              <a:rPr b="0" lang="es-MX" sz="4400" spc="-1" strike="noStrike">
                <a:solidFill>
                  <a:srgbClr val="ffffff"/>
                </a:solidFill>
                <a:latin typeface="Cooper Black"/>
              </a:rPr>
              <a:t>El Instructor laico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712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Juan 4:35</a:t>
            </a:r>
            <a:br>
              <a:rPr sz="4400"/>
            </a:b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¿No decís vosotros: Aún faltan cuatro meses para que llegue la siega? He aquí os digo: Alzad vuestros ojos y mirad los campos, porque ya están blancos para la siega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Calibri"/>
              </a:rPr>
              <a:t>Juan 4:35</a:t>
            </a:r>
            <a:br>
              <a:rPr sz="5400"/>
            </a:br>
            <a:r>
              <a:rPr b="0" lang="es-ES" sz="5400" spc="-1" strike="noStrike">
                <a:solidFill>
                  <a:srgbClr val="ffffff"/>
                </a:solidFill>
                <a:latin typeface="Calibri"/>
              </a:rPr>
              <a:t>“Alzad vuestros ojos, mirad los campos …”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Strmline-Wheat_A"/>
          <p:cNvPicPr/>
          <p:nvPr/>
        </p:nvPicPr>
        <p:blipFill>
          <a:blip r:embed="rId1"/>
          <a:stretch/>
        </p:blipFill>
        <p:spPr>
          <a:xfrm>
            <a:off x="0" y="-27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24000" y="44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Jesús y los discíp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960" y="32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Jesús: Yo tengo otra comida, Juan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4:32.</a:t>
            </a:r>
            <a:br>
              <a:rPr sz="3200"/>
            </a:br>
            <a:br>
              <a:rPr sz="1600"/>
            </a:b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os discípulos: Desconocían su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misión: Rabí come, Juan 4:31.</a:t>
            </a:r>
            <a:br>
              <a:rPr sz="3200"/>
            </a:br>
            <a:br>
              <a:rPr sz="1600"/>
            </a:b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Jesús: Mi comida es que… acabe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Su obra, Juan 4:34.</a:t>
            </a:r>
            <a:br>
              <a:rPr sz="3200"/>
            </a:br>
            <a:br>
              <a:rPr sz="1600"/>
            </a:b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os discípulos: ¿Le habrá traído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alguien de comer? Juan 4:33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24000" y="44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Jesús y los discíp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424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Jesús: Alza los ojos, </a:t>
            </a: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mira los campos.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Los discípulos: Sólo </a:t>
            </a: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ven por sus propias </a:t>
            </a: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necesidad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018_A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179280" y="189000"/>
            <a:ext cx="8607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os dirigentes de las iglesias necesitan alzar los ojos y mirar los cam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143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</a:rPr>
              <a:t>No alza los o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ista de predic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ordinar los cul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Dirigir las jun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Organiza la platafor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Velar por los program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Predica a la igle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2216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</a:rPr>
              <a:t>Sí Alza los o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-Define el territorio a evangelizar por su igles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-Dirige un grupo misio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- Organiza la iglesia en equipos mision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- Alcanza lugares nue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 CuadroTexto"/>
          <p:cNvSpPr/>
          <p:nvPr/>
        </p:nvSpPr>
        <p:spPr>
          <a:xfrm>
            <a:off x="357192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NCI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018_A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Calibri"/>
              </a:rPr>
              <a:t>Los dirigentes de las iglesias necesitan alzar los ojos y mirar los campo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No alza los o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Organiza un buen programa cada sáb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nsigue música espec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Provee cursos para sus maest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2143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í alza los o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Establece nuevas fili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Organiza equipos evangelísti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Establece una clase bautism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Asigna territorios a cada cl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124000" y="17002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Directora de Escuela Sab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18_A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57200" y="21430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No alza los o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Organiza un buen programa cada sáb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Organiza juegos con sus jóv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Organiza campamentos y clubes juven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648320" y="2143080"/>
            <a:ext cx="4244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í alza los o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Entrena y organiza a sus jóvenes para evange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Organiza equipos evangelís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Adopta un territorio para evange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Realiza programas de alcance a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os dirigentes de las iglesias necesitan alzar los ojos y mirar los campos Directores de Jóve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600" y="34286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Cuando las iglesias son dejadas en la inactividad, Satanás cuida de que estén empleadas.  Él ocupa el campo, alista a los miembros en ramos de trabajo que absorben sus energías, destruyen la espiritualidad y los hacen caer como pesos muertos sobre la iglesia”</a:t>
            </a: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800"/>
            </a:b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JT, 3:59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468360" y="18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371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ejemplo de la iglesia Apostólica </a:t>
            </a:r>
            <a:br>
              <a:rPr sz="3200"/>
            </a:b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1. Centrada en la misión, no en </a:t>
            </a: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os programas internos</a:t>
            </a:r>
            <a:r>
              <a:rPr b="0" lang="es-ES" sz="40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2. Una mentalidad enfocada hacia las personas no </a:t>
            </a: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lcanzadas, y no en las ya </a:t>
            </a: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vangelizadas</a:t>
            </a:r>
            <a:r>
              <a:rPr b="0" lang="es-ES" sz="40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Calibri"/>
              </a:rPr>
              <a:t>3. Tenía como objetivo alcanzar </a:t>
            </a:r>
            <a:r>
              <a:rPr b="0" lang="es-E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Calibri"/>
              </a:rPr>
              <a:t>todo el mundo y no </a:t>
            </a:r>
            <a:r>
              <a:rPr b="0" lang="es-E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Calibri"/>
              </a:rPr>
              <a:t>multiplicar los programas </a:t>
            </a:r>
            <a:r>
              <a:rPr b="0" lang="es-E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Calibri"/>
              </a:rPr>
              <a:t>interno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0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La iglesia Apostólica se ocupó del cumplimiento de la gran comis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000160"/>
            <a:ext cx="814356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comic"/>
              </a:rPr>
              <a:t>¿Quien es un Instructor Laico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86_A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echos 4:20, “No podemos dejar de decir lo 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que hemos visto y oído”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echos 4:31, “Hablaban con denuedo la 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Palabra de Dios”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echos 4:33, “Con gran poder los apóstoles 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daban testimonio de la resurrección del 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Señor Jesús”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echos 5:28, “Habéis llenado a Jerusalén de 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vuestra doctrina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-AQUA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ANGEL_PR"/>
          <p:cNvPicPr/>
          <p:nvPr/>
        </p:nvPicPr>
        <p:blipFill>
          <a:blip r:embed="rId2"/>
          <a:stretch/>
        </p:blipFill>
        <p:spPr>
          <a:xfrm>
            <a:off x="4086360" y="0"/>
            <a:ext cx="5057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856880"/>
            <a:ext cx="450072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Hechos 5:42</a:t>
            </a:r>
            <a:br>
              <a:rPr sz="4800"/>
            </a:b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“Y todos los días, en el templo y por las casas, no cesaban de enseñar y predicar a Jesucristo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4-067ax1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85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785808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Frecuencia: Todos los días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Lugar: El templo (atrio) y las 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asas.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Intensidad: No cesaban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Metodología: Enseñar y predicar.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ema: Jesucris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32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00"/>
                </a:solidFill>
                <a:latin typeface="Calibri"/>
              </a:rPr>
              <a:t>Textos auxiliares que nos muestran como se Manejaba la Iglesia Apostólica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86_A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7120" y="307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echos 6:4, “Nosotros persistiremos en la 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oración y en el ministerio de la palabra”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echos 8:4, “Iban por todas partes anunciando el 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vangelio”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echos 8:4, 6, 8, 12, Felipe predica en Samaria, 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gente escuchaba atentamente, había 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gran gozo en aquella ciudad, se bautizaban 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ombres y mujeres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echos 8:40, Felipe anunciaba el evangelio en 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todas las ciudades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086_A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itstream Vera Sans"/>
              </a:rPr>
              <a:t>Los seguidores de Cristo han sido redimidos para servir.  Nuestro Señor enseña que el verdadero objeto de la vida es el ministerio.  Cristo mismo fue obrero, y a todos sus seguidores les presenta la ley del servicio, el servicio a Dios y a sus semejantes.... La ley del servicio viene a ser el eslabón que nos une a Dios y a nuestros semejantes. (Lecciones Prácticas del Gran Maestro, pág. 2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Es aquella persona que instruye a la Feligresía de la igl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Que actividades hace el Instructor laico Realiza: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-  cursos,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-  seminarios,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-  da instrucción,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-  Educa</a:t>
            </a:r>
            <a:br>
              <a:rPr sz="4400"/>
            </a:br>
            <a:r>
              <a:rPr b="1" lang="es-ES" sz="4800" spc="-1" strike="noStrike">
                <a:solidFill>
                  <a:srgbClr val="ffffff"/>
                </a:solidFill>
                <a:latin typeface="Calibri"/>
              </a:rPr>
              <a:t>Una persona que enseña </a:t>
            </a:r>
            <a:br>
              <a:rPr sz="4800"/>
            </a:br>
            <a:r>
              <a:rPr b="1" lang="es-ES" sz="5400" spc="-1" strike="noStrike" u="sng">
                <a:solidFill>
                  <a:srgbClr val="ffffff"/>
                </a:solidFill>
                <a:uFillTx/>
                <a:latin typeface="Calibri"/>
              </a:rPr>
              <a:t>Un  Maestr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 u="sng">
                <a:solidFill>
                  <a:srgbClr val="ffffff"/>
                </a:solidFill>
                <a:uFillTx/>
                <a:latin typeface="Calibri"/>
              </a:rPr>
              <a:t>Consolida</a:t>
            </a:r>
            <a:br>
              <a:rPr sz="7200"/>
            </a:b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También hace que los nuevos miembros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sean instruidos debidam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71640" y="257148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comic"/>
              </a:rPr>
              <a:t>Jesús esa el maestro de los Maestr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Imagen" descr="jesus_ministerio_26.jpg"/>
          <p:cNvPicPr/>
          <p:nvPr/>
        </p:nvPicPr>
        <p:blipFill>
          <a:blip r:embed="rId2"/>
          <a:stretch/>
        </p:blipFill>
        <p:spPr>
          <a:xfrm>
            <a:off x="4929120" y="4680"/>
            <a:ext cx="48578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"/>
              </a:rPr>
              <a:t>Veamos como era la Visión</a:t>
            </a:r>
            <a:br>
              <a:rPr sz="6000"/>
            </a:br>
            <a:r>
              <a:rPr b="0" lang="es-ES" sz="6000" spc="-1" strike="noStrike">
                <a:solidFill>
                  <a:srgbClr val="ffffff"/>
                </a:solidFill>
                <a:latin typeface="comic"/>
              </a:rPr>
              <a:t>de Jesú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Strmline-Wheat_A"/>
          <p:cNvPicPr/>
          <p:nvPr/>
        </p:nvPicPr>
        <p:blipFill>
          <a:blip r:embed="rId1"/>
          <a:stretch/>
        </p:blipFill>
        <p:spPr>
          <a:xfrm>
            <a:off x="0" y="-7858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Cooper Black"/>
              </a:rPr>
              <a:t>Juan 4: 3 – 4</a:t>
            </a:r>
            <a:br>
              <a:rPr sz="4800"/>
            </a:br>
            <a:r>
              <a:rPr b="1" lang="es-ES" sz="4800" spc="-1" strike="noStrike">
                <a:solidFill>
                  <a:srgbClr val="ffff00"/>
                </a:solidFill>
                <a:latin typeface="Cooper Black"/>
              </a:rPr>
              <a:t>Salió de Judea, y se fue otra vez a Galilea.</a:t>
            </a:r>
            <a:br>
              <a:rPr sz="4800"/>
            </a:br>
            <a:r>
              <a:rPr b="1" lang="es-ES" sz="4800" spc="-1" strike="noStrike">
                <a:solidFill>
                  <a:srgbClr val="ffff00"/>
                </a:solidFill>
                <a:latin typeface="Cooper Black"/>
              </a:rPr>
              <a:t>Y le era necesario pasar por Samaria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rmline-Wheat_A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324000" y="44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Jesús y los discíp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Jesús: Le era necesario pasar por Samaria,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Juan 4:4, piedad y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simpatía (DTG,164.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os discípulos: Desprecio y odio,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TG, 164.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Jesús: Se queda para ofrecer agua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viva, Juan 4:10.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cípulos: Van a buscar comida,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Juan 4: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4:38:23Z</dcterms:created>
  <dc:creator>LUIS MORALES</dc:creator>
  <dc:description/>
  <dc:language>en-US</dc:language>
  <cp:lastModifiedBy>Daniel Salazar</cp:lastModifiedBy>
  <dcterms:modified xsi:type="dcterms:W3CDTF">2008-01-08T15:53:43Z</dcterms:modified>
  <cp:revision>14</cp:revision>
  <dc:subject/>
  <dc:title>Diapositiva 1</dc:title>
</cp:coreProperties>
</file>